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4E55A-EF38-491A-BD57-01A58B08992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3B797-5749-4B67-8972-87D379538367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FE13F-3D0E-4CCA-A4CC-995EEFE3E8E8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DF113-FC8C-48F1-8B49-1D3701CE323D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71813-77A7-4FCF-A453-70FDD572AC32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BC8D0-6FA0-4FBC-9A16-EE981F147B36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8A243-840D-4108-AE79-FE9A42F4D348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535E2-A095-4E81-B712-98B58D3D23D2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42F2A-02F7-4C2D-854D-E025B5124F66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CB39F-67A2-4AB1-827A-750F9C465665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9EAEE-5AB7-42ED-9A72-1F96691613A0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D02-4C5F-4625-B7B2-2A9AD5CD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BAF-8FB7-437C-9B75-240C262C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385-0022-43F9-887C-ED211DDB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74B-BB2A-4CD3-B689-C5ED3C5D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E92-E91C-49D8-8996-C704382B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798-F7E5-4958-B61F-C4958A46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E68-67E9-47B3-BE86-7030B969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019-4A8F-4392-A3D6-B395BCAE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06C-CBD3-4F64-AED7-B73F9957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13E-4C9F-4A2A-8C7C-44D11F11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63D-2CDB-41E0-8076-0E55B4A4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32B-CFE8-4C60-9AF1-EE7A987D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97613-A510-46F2-8DAE-C527EABB959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3406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Pani Asia</a:t>
            </a:r>
            <a:br>
              <a:rPr sz="4400"/>
            </a:b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br>
              <a:rPr sz="4400"/>
            </a:b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Pan Krzy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0" y="5184720"/>
            <a:ext cx="10080720" cy="10303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731960" y="5425920"/>
            <a:ext cx="6477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32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ROJEKT WSPÓŁFINANSOWANY ZE ŚRODKÓW UNII EUROPEJSKIE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W RAMACH EUROPEJSKIEGO FUNDUSZU SPOŁECZNE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0" y="6213600"/>
            <a:ext cx="1007892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Zaku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Za wypłacone pieniądze Mama kupuje Oli książk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365880" y="2603520"/>
            <a:ext cx="371484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Rodzina 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Poznajcie Olę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Tata Oli ma na imię Krzyś.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Mama ma na imię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Rodzice Oli pracują, aby zarobić pieniąd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889600" y="1968480"/>
            <a:ext cx="419112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Tata 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Pan Krzy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jest nauczycie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i pracuje w szk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889600" y="1968480"/>
            <a:ext cx="419112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Mama 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Comic Sans MS"/>
              </a:rPr>
              <a:t>Pani Asia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Comic Sans MS"/>
              </a:rPr>
              <a:t>prowadzi własną firmę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5889600" y="1968480"/>
            <a:ext cx="419112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Założenie ko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Rodzice wraz z Olą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udali się do banku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by założyć konto bankow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889600" y="1968480"/>
            <a:ext cx="419112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Wpłata pieniędzy w ba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omic Sans MS"/>
              </a:rPr>
              <a:t>Mama Oli co pewien czas wpłaca pieniądze na konto w kasie ban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904000" y="1979640"/>
            <a:ext cx="419076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Wpłata pieniędzy we wpłatoma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24980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Panu Krzysiowi wygodniej jest wpłacać pieniądze we wpłatoma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904000" y="1979640"/>
            <a:ext cx="419076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Przepływ pienięd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Bank przewozi pieniądze do bankomat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889600" y="1979640"/>
            <a:ext cx="419112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Wypłata pienięd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Mama Oli wypłaca pieniądze z bankoma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6480000" y="2556000"/>
            <a:ext cx="3353040" cy="447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30T11:14:00Z</dcterms:created>
  <dc:creator>Kamil</dc:creator>
  <dc:description/>
  <cp:keywords/>
  <dc:language>en-US</dc:language>
  <cp:lastModifiedBy>Darek</cp:lastModifiedBy>
  <dcterms:modified xsi:type="dcterms:W3CDTF">2015-02-03T14:02:48Z</dcterms:modified>
  <cp:revision>19</cp:revision>
  <dc:subject/>
  <dc:title>Latarnie morskie polskiego wybrzeża</dc:title>
</cp:coreProperties>
</file>