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6633BA-0A4C-4571-BBC7-9852E7D3F39E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7FA0F7-D007-45B9-A0E1-D5016389679D}" type="slidenum">
              <a:rPr b="0" lang="pl-PL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2B3DE7-1734-4BF8-89AD-292B81F13968}" type="slidenum">
              <a:rPr b="0" lang="pl-PL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151BA2-46A5-4FCF-92E9-AE8A821E7F6F}" type="slidenum">
              <a:rPr b="0" lang="pl-PL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53297E-694A-4866-B6B0-50A7303045C5}" type="slidenum">
              <a:rPr b="0" lang="pl-PL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1B2714-808F-497F-9C53-5C392F391AC0}" type="slidenum">
              <a:rPr b="0" lang="pl-PL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5FA82A-89C4-457D-B051-2EE7D2A8905A}" type="slidenum">
              <a:rPr b="0" lang="pl-PL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8F1AA4-F8F4-4F38-9B8D-5CD63E50A38E}" type="slidenum">
              <a:rPr b="0" lang="pl-PL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51DA29-AE38-4983-B89F-A766AC1F9B15}" type="slidenum">
              <a:rPr b="0" lang="pl-PL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37D6D0-F189-4CBF-B0A5-D09CB02CB00D}" type="slidenum">
              <a:rPr b="0" lang="pl-PL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B17E23-F467-4826-9116-F0B87426781B}" type="slidenum">
              <a:rPr b="0" lang="pl-PL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0C794B-0640-4C15-8816-100B5AB8D42D}" type="slidenum">
              <a:rPr b="0" lang="pl-PL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A8D3F4-6B22-4E8B-A736-51EC3F3CC473}" type="slidenum">
              <a:rPr b="0" lang="pl-PL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1BA07B-5EC7-413B-A0D4-BB9E58991C74}" type="slidenum">
              <a:rPr b="0" lang="pl-PL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802FE9-2689-4109-BED7-4C1CC5B44385}" type="slidenum">
              <a:rPr b="0" lang="pl-PL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936D20-3825-4A07-A5AC-8A45EBE98774}" type="slidenum">
              <a:rPr b="0" lang="pl-PL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D4B2D1-9937-4D4D-85F8-5A7ECE1EE745}" type="slidenum">
              <a:rPr b="0" lang="pl-PL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3B607C-0DFE-43A0-9AD4-D782BB43F41C}" type="slidenum">
              <a:rPr b="0" lang="pl-PL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3EE1-9B7A-44C7-88CD-93F0FC88B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22D0-190C-4AD5-8490-ADF155F27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D59C-0B33-4AB2-98D0-7ECC33464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E2A9-C7DB-4F70-ACE5-954B42834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5BD1-BF7E-442C-B90F-50528FFDE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7FF4-DE97-4F9F-8039-AFCF203B3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D96E-801F-41BC-AAB2-865D8ACFE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6802-0523-4C35-9E67-C149E9A89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2AF5-F61D-4F29-8D6F-BEE660E04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70A4-4263-42E4-931C-4F2489003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CF77-70FF-4DCA-AC1E-96365FB5F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71A0-4E9A-486C-93AE-6A2ED4E47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EC3B01-91CC-4DDC-BB38-157B4701F2FA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340668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Comic Sans MS"/>
              </a:rPr>
              <a:t>Krzyś</a:t>
            </a:r>
            <a:br>
              <a:rPr sz="4400"/>
            </a:br>
            <a:r>
              <a:rPr b="0" lang="pl-PL" sz="4400" spc="-1" strike="noStrike">
                <a:solidFill>
                  <a:srgbClr val="ffffff"/>
                </a:solidFill>
                <a:latin typeface="Comic Sans MS"/>
              </a:rPr>
              <a:t>i</a:t>
            </a:r>
            <a:br>
              <a:rPr sz="4400"/>
            </a:br>
            <a:r>
              <a:rPr b="0" lang="pl-PL" sz="4400" spc="-1" strike="noStrike">
                <a:solidFill>
                  <a:srgbClr val="ffffff"/>
                </a:solidFill>
                <a:latin typeface="Comic Sans MS"/>
              </a:rPr>
              <a:t>Ma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2"/>
          <p:cNvSpPr/>
          <p:nvPr/>
        </p:nvSpPr>
        <p:spPr>
          <a:xfrm>
            <a:off x="0" y="5184720"/>
            <a:ext cx="10080720" cy="1030320"/>
          </a:xfrm>
          <a:prstGeom prst="roundRect">
            <a:avLst>
              <a:gd name="adj" fmla="val 153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1731960" y="5425920"/>
            <a:ext cx="647712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832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PROJEKT WSPÓŁFINANSOWANY ZE ŚRODKÓW UNII EUROPEJSKIEJ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W RAMACH EUROPEJSKIEGO FUNDUSZU SPOŁECZNE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2"/>
          <a:stretch/>
        </p:blipFill>
        <p:spPr>
          <a:xfrm>
            <a:off x="0" y="6213600"/>
            <a:ext cx="10078920" cy="134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2920" y="323640"/>
            <a:ext cx="907092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764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omic Sans MS"/>
              </a:rPr>
              <a:t>Innym przykładem jest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omic Sans MS"/>
              </a:rPr>
              <a:t>Pan posiadający swój własny sklep spożywczy, sprzedający owoce i warzywa swoim klient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1"/>
          <a:stretch/>
        </p:blipFill>
        <p:spPr>
          <a:xfrm>
            <a:off x="6365880" y="2603520"/>
            <a:ext cx="3714840" cy="495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Comic Sans MS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24980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omic Sans MS"/>
              </a:rPr>
              <a:t>Czy klient musi być zadowolony z usług przedsiębiorc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3" descr=""/>
          <p:cNvPicPr/>
          <p:nvPr/>
        </p:nvPicPr>
        <p:blipFill>
          <a:blip r:embed="rId1"/>
          <a:stretch/>
        </p:blipFill>
        <p:spPr>
          <a:xfrm>
            <a:off x="5904000" y="1979640"/>
            <a:ext cx="4190760" cy="559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2920" y="323640"/>
            <a:ext cx="907092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764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omic Sans MS"/>
              </a:rPr>
              <a:t>Nie, nie musi.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omic Sans MS"/>
              </a:rPr>
              <a:t>Jeśli przedsiębiorca nie dba o jakość usług lub wytwarzanych produktów, to klient może być niezadowolon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3" descr=""/>
          <p:cNvPicPr/>
          <p:nvPr/>
        </p:nvPicPr>
        <p:blipFill>
          <a:blip r:embed="rId1"/>
          <a:stretch/>
        </p:blipFill>
        <p:spPr>
          <a:xfrm>
            <a:off x="6365880" y="2603520"/>
            <a:ext cx="3714840" cy="495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2920" y="323640"/>
            <a:ext cx="907092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89744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omic Sans MS"/>
              </a:rPr>
              <a:t>Trzeba pamiętać, że taki klient prawdopodobnie już więcej nie skorzysta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omic Sans MS"/>
              </a:rPr>
              <a:t>z usług tego przedsiębiorcy, wybierając w przyszłości usługi konkurencj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6365880" y="2603520"/>
            <a:ext cx="3714840" cy="495612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1"/>
          <p:cNvSpPr/>
          <p:nvPr/>
        </p:nvSpPr>
        <p:spPr>
          <a:xfrm>
            <a:off x="655560" y="4762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1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2920" y="323640"/>
            <a:ext cx="907092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2920" y="826560"/>
            <a:ext cx="4427640" cy="532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omic Sans MS"/>
              </a:rPr>
              <a:t>Przedsiębiorca, który nie ma zbyt wielu klientów, powinien przemyśleć swój plan działania oraz skonsultować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omic Sans MS"/>
              </a:rPr>
              <a:t>z potencjalnymi klientami zapotrzebowanie na jego usług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3" descr=""/>
          <p:cNvPicPr/>
          <p:nvPr/>
        </p:nvPicPr>
        <p:blipFill>
          <a:blip r:embed="rId1"/>
          <a:stretch/>
        </p:blipFill>
        <p:spPr>
          <a:xfrm>
            <a:off x="6365880" y="2603520"/>
            <a:ext cx="3714840" cy="495612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1"/>
          <p:cNvSpPr/>
          <p:nvPr/>
        </p:nvSpPr>
        <p:spPr>
          <a:xfrm>
            <a:off x="655560" y="4762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1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Comic Sans MS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24980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omic Sans MS"/>
              </a:rPr>
              <a:t>Co się stanie jeśli firma będzie sprzedawała coś, czego nikt nie potrzebuj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3" descr=""/>
          <p:cNvPicPr/>
          <p:nvPr/>
        </p:nvPicPr>
        <p:blipFill>
          <a:blip r:embed="rId1"/>
          <a:stretch/>
        </p:blipFill>
        <p:spPr>
          <a:xfrm>
            <a:off x="5904000" y="1979640"/>
            <a:ext cx="4190760" cy="559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2920" y="323640"/>
            <a:ext cx="907092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2920" y="826560"/>
            <a:ext cx="4427640" cy="532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omic Sans MS"/>
              </a:rPr>
              <a:t>Wtedy nie będzie miała klientów, a co za tym idzie nie będzie miała pieniędz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omic Sans MS"/>
              </a:rPr>
              <a:t>Z biegiem czasu przedsiębiorca będzie musiał zamknąć taką firmę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3" descr=""/>
          <p:cNvPicPr/>
          <p:nvPr/>
        </p:nvPicPr>
        <p:blipFill>
          <a:blip r:embed="rId1"/>
          <a:stretch/>
        </p:blipFill>
        <p:spPr>
          <a:xfrm>
            <a:off x="6365880" y="2603520"/>
            <a:ext cx="3714840" cy="495612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1"/>
          <p:cNvSpPr/>
          <p:nvPr/>
        </p:nvSpPr>
        <p:spPr>
          <a:xfrm>
            <a:off x="655560" y="4762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1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2920" y="323640"/>
            <a:ext cx="907092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2920" y="826560"/>
            <a:ext cx="4427640" cy="532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omic Sans MS"/>
              </a:rPr>
              <a:t>To tak, jak z placem zabaw. Dzieci chcą się bawić tylko na dobrych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omic Sans MS"/>
              </a:rPr>
              <a:t>i bezpiecznych karuzelach  i huśtawkach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omic Sans MS"/>
              </a:rPr>
              <a:t>Gdy plac zabaw jest zaniedbany, to nikt nie chce z niego korzysta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3" descr=""/>
          <p:cNvPicPr/>
          <p:nvPr/>
        </p:nvPicPr>
        <p:blipFill>
          <a:blip r:embed="rId1"/>
          <a:stretch/>
        </p:blipFill>
        <p:spPr>
          <a:xfrm>
            <a:off x="6365880" y="2603520"/>
            <a:ext cx="3714840" cy="495612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1"/>
          <p:cNvSpPr/>
          <p:nvPr/>
        </p:nvSpPr>
        <p:spPr>
          <a:xfrm>
            <a:off x="655560" y="4762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1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pl-PL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764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omic Sans MS"/>
              </a:rPr>
              <a:t>Poznajcie Krzy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omic Sans MS"/>
              </a:rPr>
              <a:t>i jego Mamę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omic Sans MS"/>
              </a:rPr>
              <a:t>Krzyś prosi Mamę o pom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omic Sans MS"/>
              </a:rPr>
              <a:t>w wyjaśnieniu trudnych pojęć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" descr=""/>
          <p:cNvPicPr/>
          <p:nvPr/>
        </p:nvPicPr>
        <p:blipFill>
          <a:blip r:embed="rId1"/>
          <a:stretch/>
        </p:blipFill>
        <p:spPr>
          <a:xfrm>
            <a:off x="5889600" y="1968480"/>
            <a:ext cx="4191120" cy="559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502920" y="1768320"/>
            <a:ext cx="442764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omic Sans MS"/>
              </a:rPr>
              <a:t>Mamo, możesz mi wytłumaczyć co to jest firm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5889600" y="1968480"/>
            <a:ext cx="4191120" cy="559116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Comic Sans MS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764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omic Sans MS"/>
              </a:rPr>
              <a:t>Krzysiu, firma jest nazwą przedsiębiorstw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omic Sans MS"/>
              </a:rPr>
              <a:t>Firma powinna wskazywać czym przedsiębiorca się zajmuj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"/>
          <p:cNvPicPr/>
          <p:nvPr/>
        </p:nvPicPr>
        <p:blipFill>
          <a:blip r:embed="rId1"/>
          <a:stretch/>
        </p:blipFill>
        <p:spPr>
          <a:xfrm>
            <a:off x="5889600" y="1968480"/>
            <a:ext cx="4191120" cy="559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Comic Sans MS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58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omic Sans MS"/>
              </a:rPr>
              <a:t>Po co ludzie zakładają firm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5889600" y="1968480"/>
            <a:ext cx="4191120" cy="559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Comic Sans MS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3280" y="684000"/>
            <a:ext cx="4425840" cy="6073560"/>
          </a:xfrm>
          <a:prstGeom prst="rect">
            <a:avLst/>
          </a:prstGeom>
          <a:noFill/>
          <a:ln w="0">
            <a:noFill/>
          </a:ln>
        </p:spPr>
        <p:txBody>
          <a:bodyPr lIns="0" rIns="0" tIns="1332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Comic Sans MS"/>
              </a:rPr>
              <a:t>Ludzie zakładają firmy, by móc w legalnie produkować przedmioty, lub świadczyć usługi dla innych ludzi lub przedsiębiorstw, przy okazji zarabiając w ten sposób pieniądz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5889600" y="1968480"/>
            <a:ext cx="4191120" cy="559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Comic Sans MS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24980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omic Sans MS"/>
              </a:rPr>
              <a:t>A kim jest przedsiębiorc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" descr=""/>
          <p:cNvPicPr/>
          <p:nvPr/>
        </p:nvPicPr>
        <p:blipFill>
          <a:blip r:embed="rId1"/>
          <a:stretch/>
        </p:blipFill>
        <p:spPr>
          <a:xfrm>
            <a:off x="5904000" y="1979640"/>
            <a:ext cx="4190760" cy="559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Comic Sans MS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58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omic Sans MS"/>
              </a:rPr>
              <a:t>Przedsiębiorca to podmiot, który prowadzi we własnym imieniu działalność gospodarcz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"/>
          <p:cNvPicPr/>
          <p:nvPr/>
        </p:nvPicPr>
        <p:blipFill>
          <a:blip r:embed="rId1"/>
          <a:stretch/>
        </p:blipFill>
        <p:spPr>
          <a:xfrm>
            <a:off x="5889600" y="1979640"/>
            <a:ext cx="4191120" cy="559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Comic Sans MS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764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omic Sans MS"/>
              </a:rPr>
              <a:t>Przykładem przedsiębiorcy może być Pani Architekt, która za opłatą projektuje budynki i mos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3" descr=""/>
          <p:cNvPicPr/>
          <p:nvPr/>
        </p:nvPicPr>
        <p:blipFill>
          <a:blip r:embed="rId1"/>
          <a:stretch/>
        </p:blipFill>
        <p:spPr>
          <a:xfrm>
            <a:off x="6192720" y="2371680"/>
            <a:ext cx="3888000" cy="5187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30T11:14:00Z</dcterms:created>
  <dc:creator>Kamil</dc:creator>
  <dc:description/>
  <cp:keywords/>
  <dc:language>en-US</dc:language>
  <cp:lastModifiedBy>Darek</cp:lastModifiedBy>
  <dcterms:modified xsi:type="dcterms:W3CDTF">2015-02-03T08:42:20Z</dcterms:modified>
  <cp:revision>27</cp:revision>
  <dc:subject/>
  <dc:title>Latarnie morskie polskiego wybrzeża</dc:title>
</cp:coreProperties>
</file>